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8AC-E397-45B7-9FE8-B3BE3943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C51-C74F-46B9-A317-098D6DFD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6DE-4F2A-45AE-8D12-D542AF6C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B39-103B-4439-B93B-32766BDE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A5B-013A-4F05-B06B-E8E42DE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F45-5376-411A-B8A9-B5F995FD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7FA-1602-4645-BC7E-89746FB4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A27-F0D7-424C-B6B8-8351B87C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6AE-8071-42DC-B230-29EAC5DB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D43-9B31-4264-87FF-85F5DC17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269-F405-44D8-9E0E-64B24C6A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4B6-3049-4771-B44F-F5DFDB9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31A7-1D28-4094-BCDE-4BD3EA65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nathan_Swift_by_Charles_Jervas_detai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onathan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00520" cy="358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3828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 Matt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ulliver’s Trave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ten in 17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wift’s most famou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lls the story of an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ten in order to ridicule human weaknesses and crue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erature of Swift Par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Modest Proposal” written in 17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st famous sa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ses on the Death of Dr. Swift” written in 17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compilation of ways Swift could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3971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orks C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ompetech, . "Jonathan "Isaac Bickerstaff" Swift."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ncompete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1996. incompetech, Web. 5 Oct 2009. &lt;http://incompetech.com/authors/swift/&gt;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ukkonen, Petri. "Jonathan Swift."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ooks and Writer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2008. Amazon.com, Web. 5 Oct 2009. &lt;http://www.kirjasto.sci.fi/jswift.htm&gt;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siado, Tel. "Jonathan Swift Biography."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uite10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20 Apr. 2009. Great Writers, Web. 5 Oct 2009. &lt;http://great-writers.suite101.com/article.cfm/jonathan_swift_biography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END!!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600200"/>
            <a:ext cx="3863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sic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rn in Dublin, Ireland on Nov. 30, 1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ed in Dublin on Oct. 19, 17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ge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rn into poor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s: Jonathan Swift, Sr. and Abigail Er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rowing Up and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09720" y="1523880"/>
            <a:ext cx="3048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wift given to rich Uncle God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udied at Kilkenny Gramma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ived Bachelor's and Master’s degrees at Trinity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ove into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dained as a Protestant 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retary to Sir William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an of St. Patrick’s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176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arly Start in 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57440" y="1523520"/>
            <a:ext cx="3048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mous for writing sat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ttle of the Books” and “A Tale of a Tu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re controversy in England and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24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ersonal Life of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ried Esther “Stella” Johnson in 1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ohnson died in 17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 Hester “Vanessa” Vanhomrigh in 1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ke Vanessa’s heart in 17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320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erature of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05520" y="1523880"/>
            <a:ext cx="3047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ttle of the Books” written in 17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Tale of a Tub” written in 17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so a sa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erature of Swift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ournal to Stella” written from 1710-1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sonal feelings of Sw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denus and Vanessa” written in 1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te story about Van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46680" y="1600200"/>
            <a:ext cx="3065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erature of Swift Part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57440" y="15238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the Conduct of Allies” written in 1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other sa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rapier’s Letters” written in 17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mphlets of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448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34:50Z</dcterms:created>
  <dc:creator> </dc:creator>
  <dc:description/>
  <dc:language>en-US</dc:language>
  <cp:lastModifiedBy> </cp:lastModifiedBy>
  <dcterms:modified xsi:type="dcterms:W3CDTF">2009-10-20T18:15:18Z</dcterms:modified>
  <cp:revision>15</cp:revision>
  <dc:subject/>
  <dc:title>Slide 1</dc:title>
</cp:coreProperties>
</file>